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75D-8F38-4ED3-BFA0-C91789B8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586-0B29-4D3C-8E75-D125633C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152-64E1-47C7-B743-3F10E27E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EDF-817B-403F-A1C7-E334A2F1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AC6-EA31-48D6-816B-FB79C243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3FC-8B0B-448A-9FBB-233214E6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EC4-B1B2-45A6-A821-B4E5B4B0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90D-2BDF-48DA-A19E-3259F271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410-636E-46F3-9CDF-842BF4D8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375-4323-4F1A-A1F7-7FF11A46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042-59F3-4AFF-8CC5-AB8B1515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725-B963-48B4-9FBF-BFBC07BE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5EE0-F900-4E80-9158-ABDBCE5A6A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434520"/>
            <a:ext cx="12192120" cy="1467000"/>
          </a:xfrm>
          <a:prstGeom prst="rect">
            <a:avLst/>
          </a:prstGeom>
          <a:solidFill>
            <a:srgbClr val="586499">
              <a:alpha val="66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Конкурс  творческих проектов «Бюджет для гражда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Номинация  – «Финансовый кроссворд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4000680" y="3244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905360" y="4834080"/>
            <a:ext cx="7040520" cy="947160"/>
          </a:xfrm>
          <a:prstGeom prst="rect">
            <a:avLst/>
          </a:prstGeom>
          <a:solidFill>
            <a:srgbClr val="5864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проекта: Зайцев Егор Максимови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атор: Иванова Анна Льв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39800" y="217440"/>
          <a:ext cx="9217080" cy="6327720"/>
        </p:xfrm>
        <a:graphic>
          <a:graphicData uri="http://schemas.openxmlformats.org/drawingml/2006/table">
            <a:tbl>
              <a:tblPr/>
              <a:tblGrid>
                <a:gridCol w="328680"/>
                <a:gridCol w="330120"/>
                <a:gridCol w="328680"/>
                <a:gridCol w="328680"/>
                <a:gridCol w="330120"/>
                <a:gridCol w="328680"/>
                <a:gridCol w="328680"/>
                <a:gridCol w="330120"/>
                <a:gridCol w="328680"/>
                <a:gridCol w="330120"/>
                <a:gridCol w="328680"/>
                <a:gridCol w="328680"/>
                <a:gridCol w="330120"/>
                <a:gridCol w="328680"/>
                <a:gridCol w="328320"/>
                <a:gridCol w="330480"/>
                <a:gridCol w="328680"/>
                <a:gridCol w="328320"/>
                <a:gridCol w="330480"/>
                <a:gridCol w="328320"/>
                <a:gridCol w="328680"/>
                <a:gridCol w="330120"/>
                <a:gridCol w="328680"/>
                <a:gridCol w="330120"/>
                <a:gridCol w="328680"/>
                <a:gridCol w="328680"/>
                <a:gridCol w="330120"/>
                <a:gridCol w="328680"/>
              </a:tblGrid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101520" y="-19080"/>
            <a:ext cx="2743200" cy="30178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"/>
          <p:cNvPicPr/>
          <p:nvPr/>
        </p:nvPicPr>
        <p:blipFill>
          <a:blip r:embed="rId2"/>
          <a:srcRect l="14367" t="0" r="21727" b="0"/>
          <a:stretch/>
        </p:blipFill>
        <p:spPr>
          <a:xfrm>
            <a:off x="10007640" y="4162320"/>
            <a:ext cx="16984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90520" y="262080"/>
            <a:ext cx="11538000" cy="5882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ертика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езвозмездные, невозвратные трансфертные платежи различных исполнительных органов частным и государственным предприятиям для покрытия производственных расход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Лицо, избранное для исполнения обязанностей в составе совета директоров компании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бесценивание денег, которое проявляется в неравномерном повышении цен на услуги и товар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оцесс, обеспечивающий достижение целей в области финансово-экономического законодатель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Термин из области экономических наук, относящийся к одному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пособов изложения экономической теории и соответствующих учебных курс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0440" y="364680"/>
            <a:ext cx="11263320" cy="4178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Диапазон потенциальной доходности инвестиций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их риска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Несанкционированный расход финансов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В экономике термин обозначает относительно умеренный, некритический спад производства или замедление темпов экономического роста;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Схема доходов и расходов определённого объекта (семьи, бизнеса, организации, государства и т. д.), устанавливаемая на определённый период времени.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2"/>
          <a:stretch/>
        </p:blipFill>
        <p:spPr>
          <a:xfrm>
            <a:off x="4702320" y="4348080"/>
            <a:ext cx="67975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507960" y="130320"/>
            <a:ext cx="11161800" cy="58820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Горизонталь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ъятие из обращения денежной массы, признанной избыточной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Этот банковский термин часто используется при оформлении кредит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оход акционера на каждую акцию, формирующийся за счёт части чистой прибыли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ропорциональное снижение государственных расходов по всем статьям бюджета в течение времени, оставшегося до конца текущего бюджетного год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Разрешение уполномоченного государством органа на выполнение определенных операций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65120" y="422280"/>
            <a:ext cx="11393640" cy="5836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Выражают экономические отношения в связи с образованием, распределением и использованием денежных средств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Соотношение  двух видов ценных бумаг, с фиксированным доходом и нефиксированным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Физическое или юридическое лицо, владеющее акциями компании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Лицо, имеющее задолженность в отношении фирмы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 Банковский кредит, который проводится банком через текущий счет клиент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Кредитная  операция, при которой экспортер, получив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импортера акцептованные последним тратты (переводные векселя), продает их со скидкой банку или специализированной финансовой фирм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96960" y="392040"/>
          <a:ext cx="10783800" cy="6064200"/>
        </p:xfrm>
        <a:graphic>
          <a:graphicData uri="http://schemas.openxmlformats.org/drawingml/2006/table">
            <a:tbl>
              <a:tblPr/>
              <a:tblGrid>
                <a:gridCol w="384120"/>
                <a:gridCol w="385920"/>
                <a:gridCol w="385560"/>
                <a:gridCol w="384120"/>
                <a:gridCol w="385920"/>
                <a:gridCol w="385560"/>
                <a:gridCol w="384480"/>
                <a:gridCol w="385560"/>
                <a:gridCol w="384120"/>
                <a:gridCol w="385920"/>
                <a:gridCol w="385560"/>
                <a:gridCol w="384480"/>
                <a:gridCol w="385560"/>
                <a:gridCol w="384120"/>
                <a:gridCol w="385920"/>
                <a:gridCol w="385560"/>
                <a:gridCol w="384480"/>
                <a:gridCol w="385560"/>
                <a:gridCol w="384120"/>
                <a:gridCol w="385920"/>
                <a:gridCol w="385560"/>
                <a:gridCol w="384480"/>
                <a:gridCol w="385560"/>
                <a:gridCol w="385920"/>
                <a:gridCol w="384120"/>
                <a:gridCol w="385560"/>
                <a:gridCol w="384480"/>
                <a:gridCol w="385560"/>
              </a:tblGrid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0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0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3333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403200" y="217440"/>
            <a:ext cx="2238480" cy="22384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"/>
          <p:cNvPicPr/>
          <p:nvPr/>
        </p:nvPicPr>
        <p:blipFill>
          <a:blip r:embed="rId2"/>
          <a:stretch/>
        </p:blipFill>
        <p:spPr>
          <a:xfrm>
            <a:off x="9379080" y="3519360"/>
            <a:ext cx="15969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2"/>
          <a:stretch/>
        </p:blipFill>
        <p:spPr>
          <a:xfrm>
            <a:off x="0" y="1925640"/>
            <a:ext cx="12095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18T09:04:38Z</dcterms:created>
  <dc:creator>Кабинет истории</dc:creator>
  <dc:description/>
  <dc:language>en-US</dc:language>
  <cp:lastModifiedBy>Кабинет истории</cp:lastModifiedBy>
  <dcterms:modified xsi:type="dcterms:W3CDTF">2022-03-18T11:47:15Z</dcterms:modified>
  <cp:revision>15</cp:revision>
  <dc:subject/>
  <dc:title>Презентация PowerPoint</dc:title>
</cp:coreProperties>
</file>